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7F0-2C41-485C-A2D1-3678B176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58C-87D6-4356-A466-7CD6E0EE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C76-1659-406D-88B4-F7A30C55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7F9-030B-4470-89C7-E7E735A0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BCD2-523B-4BC2-BAD9-B66B9397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54F6-BAE1-4865-9CDE-E9FAA778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F969-66F1-4C1D-850F-44A75E09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CA42-D086-4F72-BAA0-75CCE327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B69F-627C-4887-8460-9B5D7CB7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A004-EAD0-4B3E-8B9A-FDE13F29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03E8-3DF4-41A2-97C9-0290AA2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54B-197B-4AB9-82AA-A8E77B2A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BE67-25BA-47F9-ACDE-2D1E3F76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4C6E-8605-41A2-AFEA-7049BED8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E9EA-7418-4045-9C87-E348968C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66DA-D38E-4001-AE74-7F50E2F2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00E7-25E7-420A-863A-4B5261D7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198-8B1B-4F56-B9DD-E9604D19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D2D-9C05-4C39-BEE5-7D6FE875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F77-612B-4114-ABBD-09DF9E0D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61F-6FCB-4A4E-BA60-084595C7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EE8-01E3-4E7C-A90E-CFC8C576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E5D-974C-4EF4-BEC0-921355C1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F80-ACEF-4EE3-8510-C2AE5CCE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4593-48E4-43A4-BA9C-8473C4ED5FD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25DD-BB62-4309-8914-938FC7B98A2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Me llamo _________ Clase 6NH (602)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La fecha es el 4 de octubre del 2012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Propósito # 8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ómo practicamos el Repaso 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ra la foto en la p. R6 del TEXTO y COPIA y responde las siguientes pregunt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uántas muchachas hay en la fotografí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De dónde son ella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Están en el parqu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Tienen bicicleta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Garamond"/>
              </a:rPr>
              <a:t>Ejercicios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00"/>
                </a:solidFill>
                <a:latin typeface="Verdana"/>
              </a:rPr>
              <a:t>I-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pia y comple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Karina no es baja. Es 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ax no es antipático. Es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aleria no es fea. Es 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niel no es pelirrojo y no es rubio. Es 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00"/>
                </a:solidFill>
                <a:latin typeface="Verdana"/>
              </a:rPr>
              <a:t>II-</a:t>
            </a:r>
            <a:r>
              <a:rPr b="0" lang="es-ES_tradnl" sz="24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presa la misma idea usando una palabra dife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la es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uap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la es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racio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Garamond"/>
              </a:rPr>
              <a:t>Tarea # 8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 hoj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7:29Z</dcterms:created>
  <dc:creator>Helen Zumaeta</dc:creator>
  <dc:description/>
  <dc:language>en-US</dc:language>
  <cp:lastModifiedBy>Helen Zumaeta</cp:lastModifiedBy>
  <dcterms:modified xsi:type="dcterms:W3CDTF">2012-10-02T21:28:37Z</dcterms:modified>
  <cp:revision>15</cp:revision>
  <dc:subject/>
  <dc:title>Slide 1</dc:title>
</cp:coreProperties>
</file>